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F51-084D-4BB2-9BC6-13CFEE43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3EA-F508-4E8A-93AA-9AAAF366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79F5-A8A9-431D-84A7-0D667B41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84F-5855-4FDD-B891-CFA761FB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5EE-70E2-4E9E-98CF-86DED6B3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930-DEEE-4C34-89DF-EE8F5FFB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A50-5FC2-47B6-A5C9-B8F900AA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67E-D0E1-41A3-B465-95AFCA28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0FF-93DB-4AFC-BC6D-4DE2CEE1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7FB-308C-429E-99F9-0504369A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4EC-05B2-4E56-923D-B6EEA859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964-3396-40E4-B36E-E04AB886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F238-08B7-4A19-90F4-968D9FCB7F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Ana Nina\Desktop\Pictur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sr-CS" sz="4800" spc="-1" strike="noStrike">
                <a:solidFill>
                  <a:srgbClr val="000000"/>
                </a:solidFill>
                <a:latin typeface="Calibri"/>
              </a:rPr>
              <a:t>НОТЕРАПИЈ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ња Зечевић Лук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Хипобаричн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оцеду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743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кус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ask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скула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НУЕЛНЕ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ЕРАПИЈСКЕ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ЕХ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44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нипул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ce YU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438280" y="43434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Екстензионе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процедуре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ракц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кстензиј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сивн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незитерапијск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ећат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вертебралн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стор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1,5–2,5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м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шируј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вертебралн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вор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орамин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вертебрали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блокирај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дњ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вертебралн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офизн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глобов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сној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атомској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з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иналним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еновим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теж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игаментн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а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Trakcija vrata"/>
          <p:cNvPicPr/>
          <p:nvPr/>
        </p:nvPicPr>
        <p:blipFill>
          <a:blip r:embed="rId1"/>
          <a:srcRect l="6576" t="4539" r="6978" b="1037"/>
          <a:stretch/>
        </p:blipFill>
        <p:spPr>
          <a:xfrm>
            <a:off x="6781680" y="0"/>
            <a:ext cx="2362320" cy="32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dp_latcutaway-BB"/>
          <p:cNvPicPr/>
          <p:nvPr/>
        </p:nvPicPr>
        <p:blipFill>
          <a:blip r:embed="rId2"/>
          <a:srcRect l="0" t="0" r="7143" b="0"/>
          <a:stretch/>
        </p:blipFill>
        <p:spPr>
          <a:xfrm>
            <a:off x="5183280" y="6629400"/>
            <a:ext cx="396072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кстензиј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Трај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онтинуи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Интермитент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– 6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30–6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ц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укцесивн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огресив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ндикације за екстензи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генератив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чме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уб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аз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ункционал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локад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епе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fasse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liolumb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нтраиндикације за екстензи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ераци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берколоз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ндилити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мо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актур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раже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еопороз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ојермано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ес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гвинал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кротал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ерн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ж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рча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ућ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back_pain_with_spine"/>
          <p:cNvPicPr/>
          <p:nvPr/>
        </p:nvPicPr>
        <p:blipFill>
          <a:blip r:embed="rId1"/>
          <a:stretch/>
        </p:blipFill>
        <p:spPr>
          <a:xfrm>
            <a:off x="701028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Н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онотерапиј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дразуме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имен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вук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ерапијск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врх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д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вучно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нергијо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дразуме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блик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France YU"/>
                <a:ea typeface="Times New Roman"/>
              </a:rPr>
              <a:t>таласастог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France YU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France YU"/>
                <a:ea typeface="Times New Roman"/>
              </a:rPr>
              <a:t>крета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едстављен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лонгитудинални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еханички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реперење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честиц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териј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ој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ид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France YU"/>
                <a:ea typeface="Times New Roman"/>
              </a:rPr>
              <a:t>згушњава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France YU"/>
                <a:ea typeface="Times New Roman"/>
              </a:rPr>
              <a:t>разређива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остир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роз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гасовит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ечн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чврст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редин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Брзин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остира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авис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фреквенциј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алас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ужи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7" descr="kosovka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У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44956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990720" y="4724280"/>
            <a:ext cx="7086240" cy="1524240"/>
            <a:chOff x="990720" y="4724280"/>
            <a:chExt cx="7086240" cy="1524240"/>
          </a:xfrm>
        </p:grpSpPr>
        <p:sp>
          <p:nvSpPr>
            <p:cNvPr id="89" name="Text Box 5"/>
            <p:cNvSpPr/>
            <p:nvPr/>
          </p:nvSpPr>
          <p:spPr>
            <a:xfrm>
              <a:off x="2328480" y="5929560"/>
              <a:ext cx="46951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2091240" y="4724280"/>
              <a:ext cx="52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2423160" y="5220360"/>
              <a:ext cx="0" cy="53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990720" y="4866120"/>
              <a:ext cx="11955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равац осциловања чести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9"/>
            <p:cNvSpPr/>
            <p:nvPr/>
          </p:nvSpPr>
          <p:spPr>
            <a:xfrm flipV="1">
              <a:off x="1949040" y="4830480"/>
              <a:ext cx="37908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"/>
            <p:cNvSpPr/>
            <p:nvPr/>
          </p:nvSpPr>
          <p:spPr>
            <a:xfrm>
              <a:off x="1901520" y="5326920"/>
              <a:ext cx="379440" cy="21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1"/>
            <p:cNvSpPr/>
            <p:nvPr/>
          </p:nvSpPr>
          <p:spPr>
            <a:xfrm>
              <a:off x="6881400" y="4901400"/>
              <a:ext cx="11955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равац простирања тала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12"/>
          <p:cNvSpPr/>
          <p:nvPr/>
        </p:nvSpPr>
        <p:spPr>
          <a:xfrm>
            <a:off x="76320" y="3930480"/>
            <a:ext cx="906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ЗВУК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МЕХАНИЧК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ЛОНГИТУДИНАЛН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ТАЛАС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ФРЕКВЕНТНОГ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ОПСЕГА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20 – 20.000 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2590920" y="1981080"/>
            <a:ext cx="3886200" cy="2210040"/>
            <a:chOff x="2590920" y="1981080"/>
            <a:chExt cx="3886200" cy="2210040"/>
          </a:xfrm>
        </p:grpSpPr>
        <p:grpSp>
          <p:nvGrpSpPr>
            <p:cNvPr id="98" name="Group 14"/>
            <p:cNvGrpSpPr/>
            <p:nvPr/>
          </p:nvGrpSpPr>
          <p:grpSpPr>
            <a:xfrm>
              <a:off x="3312360" y="2075400"/>
              <a:ext cx="2456640" cy="330120"/>
              <a:chOff x="3312360" y="2075400"/>
              <a:chExt cx="2456640" cy="330120"/>
            </a:xfrm>
          </p:grpSpPr>
          <p:grpSp>
            <p:nvGrpSpPr>
              <p:cNvPr id="99" name="Group 15"/>
              <p:cNvGrpSpPr/>
              <p:nvPr/>
            </p:nvGrpSpPr>
            <p:grpSpPr>
              <a:xfrm>
                <a:off x="4196160" y="2075400"/>
                <a:ext cx="736920" cy="330120"/>
                <a:chOff x="4196160" y="2075400"/>
                <a:chExt cx="736920" cy="330120"/>
              </a:xfrm>
            </p:grpSpPr>
            <p:grpSp>
              <p:nvGrpSpPr>
                <p:cNvPr id="100" name="Group 16"/>
                <p:cNvGrpSpPr/>
                <p:nvPr/>
              </p:nvGrpSpPr>
              <p:grpSpPr>
                <a:xfrm>
                  <a:off x="4380480" y="2075400"/>
                  <a:ext cx="368280" cy="164880"/>
                  <a:chOff x="4380480" y="2075400"/>
                  <a:chExt cx="368280" cy="164880"/>
                </a:xfrm>
              </p:grpSpPr>
              <p:sp>
                <p:nvSpPr>
                  <p:cNvPr id="101" name="Freeform 17"/>
                  <p:cNvSpPr/>
                  <p:nvPr/>
                </p:nvSpPr>
                <p:spPr>
                  <a:xfrm>
                    <a:off x="4380480" y="2075400"/>
                    <a:ext cx="18396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8"/>
                  <p:cNvSpPr/>
                  <p:nvPr/>
                </p:nvSpPr>
                <p:spPr>
                  <a:xfrm flipH="1">
                    <a:off x="4564440" y="2075400"/>
                    <a:ext cx="18432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" name="Freeform 19"/>
                <p:cNvSpPr/>
                <p:nvPr/>
              </p:nvSpPr>
              <p:spPr>
                <a:xfrm flipV="1">
                  <a:off x="4749120" y="224028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" name="Group 20"/>
                <p:cNvGrpSpPr/>
                <p:nvPr/>
              </p:nvGrpSpPr>
              <p:grpSpPr>
                <a:xfrm>
                  <a:off x="4380480" y="2075400"/>
                  <a:ext cx="368280" cy="164880"/>
                  <a:chOff x="4380480" y="2075400"/>
                  <a:chExt cx="368280" cy="164880"/>
                </a:xfrm>
              </p:grpSpPr>
              <p:sp>
                <p:nvSpPr>
                  <p:cNvPr id="105" name="Freeform 21"/>
                  <p:cNvSpPr/>
                  <p:nvPr/>
                </p:nvSpPr>
                <p:spPr>
                  <a:xfrm>
                    <a:off x="4380480" y="2075400"/>
                    <a:ext cx="18396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"/>
                  <p:cNvSpPr/>
                  <p:nvPr/>
                </p:nvSpPr>
                <p:spPr>
                  <a:xfrm flipH="1">
                    <a:off x="4564440" y="2075400"/>
                    <a:ext cx="18432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Freeform 23"/>
                <p:cNvSpPr/>
                <p:nvPr/>
              </p:nvSpPr>
              <p:spPr>
                <a:xfrm flipV="1">
                  <a:off x="4749120" y="224028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24"/>
                <p:cNvSpPr/>
                <p:nvPr/>
              </p:nvSpPr>
              <p:spPr>
                <a:xfrm flipH="1" flipV="1">
                  <a:off x="4195800" y="224064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Line 25"/>
              <p:cNvSpPr/>
              <p:nvPr/>
            </p:nvSpPr>
            <p:spPr>
              <a:xfrm>
                <a:off x="3312360" y="2405520"/>
                <a:ext cx="88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26"/>
              <p:cNvSpPr/>
              <p:nvPr/>
            </p:nvSpPr>
            <p:spPr>
              <a:xfrm>
                <a:off x="4933800" y="2405520"/>
                <a:ext cx="83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 Box 27"/>
            <p:cNvSpPr/>
            <p:nvPr/>
          </p:nvSpPr>
          <p:spPr>
            <a:xfrm>
              <a:off x="2820960" y="212256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8"/>
            <p:cNvSpPr/>
            <p:nvPr/>
          </p:nvSpPr>
          <p:spPr>
            <a:xfrm>
              <a:off x="2820960" y="283104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29"/>
            <p:cNvGrpSpPr/>
            <p:nvPr/>
          </p:nvGrpSpPr>
          <p:grpSpPr>
            <a:xfrm>
              <a:off x="3490920" y="2972520"/>
              <a:ext cx="692280" cy="565920"/>
              <a:chOff x="3490920" y="2972520"/>
              <a:chExt cx="692280" cy="565920"/>
            </a:xfrm>
          </p:grpSpPr>
          <p:grpSp>
            <p:nvGrpSpPr>
              <p:cNvPr id="114" name="Group 30"/>
              <p:cNvGrpSpPr/>
              <p:nvPr/>
            </p:nvGrpSpPr>
            <p:grpSpPr>
              <a:xfrm>
                <a:off x="3490920" y="2972520"/>
                <a:ext cx="345960" cy="283320"/>
                <a:chOff x="3490920" y="2972520"/>
                <a:chExt cx="345960" cy="283320"/>
              </a:xfrm>
            </p:grpSpPr>
            <p:sp>
              <p:nvSpPr>
                <p:cNvPr id="115" name="Freeform 31"/>
                <p:cNvSpPr/>
                <p:nvPr/>
              </p:nvSpPr>
              <p:spPr>
                <a:xfrm>
                  <a:off x="349092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2"/>
                <p:cNvSpPr/>
                <p:nvPr/>
              </p:nvSpPr>
              <p:spPr>
                <a:xfrm flipH="1">
                  <a:off x="366336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33"/>
              <p:cNvGrpSpPr/>
              <p:nvPr/>
            </p:nvGrpSpPr>
            <p:grpSpPr>
              <a:xfrm>
                <a:off x="3837240" y="3255120"/>
                <a:ext cx="345960" cy="283320"/>
                <a:chOff x="3837240" y="3255120"/>
                <a:chExt cx="345960" cy="283320"/>
              </a:xfrm>
            </p:grpSpPr>
            <p:sp>
              <p:nvSpPr>
                <p:cNvPr id="118" name="Freeform 34"/>
                <p:cNvSpPr/>
                <p:nvPr/>
              </p:nvSpPr>
              <p:spPr>
                <a:xfrm flipV="1">
                  <a:off x="383724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5"/>
                <p:cNvSpPr/>
                <p:nvPr/>
              </p:nvSpPr>
              <p:spPr>
                <a:xfrm flipH="1" flipV="1">
                  <a:off x="400968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36"/>
              <p:cNvGrpSpPr/>
              <p:nvPr/>
            </p:nvGrpSpPr>
            <p:grpSpPr>
              <a:xfrm>
                <a:off x="3490920" y="2972520"/>
                <a:ext cx="345960" cy="283320"/>
                <a:chOff x="3490920" y="2972520"/>
                <a:chExt cx="345960" cy="283320"/>
              </a:xfrm>
            </p:grpSpPr>
            <p:sp>
              <p:nvSpPr>
                <p:cNvPr id="121" name="Freeform 37"/>
                <p:cNvSpPr/>
                <p:nvPr/>
              </p:nvSpPr>
              <p:spPr>
                <a:xfrm>
                  <a:off x="349092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38"/>
                <p:cNvSpPr/>
                <p:nvPr/>
              </p:nvSpPr>
              <p:spPr>
                <a:xfrm flipH="1">
                  <a:off x="366336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39"/>
              <p:cNvGrpSpPr/>
              <p:nvPr/>
            </p:nvGrpSpPr>
            <p:grpSpPr>
              <a:xfrm>
                <a:off x="3837240" y="3255120"/>
                <a:ext cx="345960" cy="283320"/>
                <a:chOff x="3837240" y="3255120"/>
                <a:chExt cx="345960" cy="283320"/>
              </a:xfrm>
            </p:grpSpPr>
            <p:sp>
              <p:nvSpPr>
                <p:cNvPr id="124" name="Freeform 40"/>
                <p:cNvSpPr/>
                <p:nvPr/>
              </p:nvSpPr>
              <p:spPr>
                <a:xfrm flipV="1">
                  <a:off x="383724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1"/>
                <p:cNvSpPr/>
                <p:nvPr/>
              </p:nvSpPr>
              <p:spPr>
                <a:xfrm flipH="1" flipV="1">
                  <a:off x="400968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42"/>
            <p:cNvGrpSpPr/>
            <p:nvPr/>
          </p:nvGrpSpPr>
          <p:grpSpPr>
            <a:xfrm>
              <a:off x="4183920" y="2972520"/>
              <a:ext cx="691200" cy="565920"/>
              <a:chOff x="4183920" y="2972520"/>
              <a:chExt cx="691200" cy="565920"/>
            </a:xfrm>
          </p:grpSpPr>
          <p:grpSp>
            <p:nvGrpSpPr>
              <p:cNvPr id="127" name="Group 43"/>
              <p:cNvGrpSpPr/>
              <p:nvPr/>
            </p:nvGrpSpPr>
            <p:grpSpPr>
              <a:xfrm>
                <a:off x="4183920" y="2972520"/>
                <a:ext cx="345600" cy="283320"/>
                <a:chOff x="4183920" y="2972520"/>
                <a:chExt cx="345600" cy="283320"/>
              </a:xfrm>
            </p:grpSpPr>
            <p:sp>
              <p:nvSpPr>
                <p:cNvPr id="128" name="Freeform 44"/>
                <p:cNvSpPr/>
                <p:nvPr/>
              </p:nvSpPr>
              <p:spPr>
                <a:xfrm>
                  <a:off x="4183920" y="297288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5"/>
                <p:cNvSpPr/>
                <p:nvPr/>
              </p:nvSpPr>
              <p:spPr>
                <a:xfrm flipH="1">
                  <a:off x="4356720" y="29725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46"/>
              <p:cNvGrpSpPr/>
              <p:nvPr/>
            </p:nvGrpSpPr>
            <p:grpSpPr>
              <a:xfrm>
                <a:off x="4529520" y="3255120"/>
                <a:ext cx="345600" cy="283320"/>
                <a:chOff x="4529520" y="3255120"/>
                <a:chExt cx="345600" cy="283320"/>
              </a:xfrm>
            </p:grpSpPr>
            <p:sp>
              <p:nvSpPr>
                <p:cNvPr id="131" name="Freeform 47"/>
                <p:cNvSpPr/>
                <p:nvPr/>
              </p:nvSpPr>
              <p:spPr>
                <a:xfrm flipV="1">
                  <a:off x="4529520" y="32551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48"/>
                <p:cNvSpPr/>
                <p:nvPr/>
              </p:nvSpPr>
              <p:spPr>
                <a:xfrm flipH="1" flipV="1">
                  <a:off x="4701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49"/>
              <p:cNvGrpSpPr/>
              <p:nvPr/>
            </p:nvGrpSpPr>
            <p:grpSpPr>
              <a:xfrm>
                <a:off x="4183920" y="2972520"/>
                <a:ext cx="345600" cy="283320"/>
                <a:chOff x="4183920" y="2972520"/>
                <a:chExt cx="345600" cy="283320"/>
              </a:xfrm>
            </p:grpSpPr>
            <p:sp>
              <p:nvSpPr>
                <p:cNvPr id="134" name="Freeform 50"/>
                <p:cNvSpPr/>
                <p:nvPr/>
              </p:nvSpPr>
              <p:spPr>
                <a:xfrm>
                  <a:off x="4183920" y="297288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51"/>
                <p:cNvSpPr/>
                <p:nvPr/>
              </p:nvSpPr>
              <p:spPr>
                <a:xfrm flipH="1">
                  <a:off x="4356720" y="29725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52"/>
              <p:cNvGrpSpPr/>
              <p:nvPr/>
            </p:nvGrpSpPr>
            <p:grpSpPr>
              <a:xfrm>
                <a:off x="4529520" y="3255120"/>
                <a:ext cx="345600" cy="283320"/>
                <a:chOff x="4529520" y="3255120"/>
                <a:chExt cx="345600" cy="283320"/>
              </a:xfrm>
            </p:grpSpPr>
            <p:sp>
              <p:nvSpPr>
                <p:cNvPr id="137" name="Freeform 53"/>
                <p:cNvSpPr/>
                <p:nvPr/>
              </p:nvSpPr>
              <p:spPr>
                <a:xfrm flipV="1">
                  <a:off x="4529520" y="32551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54"/>
                <p:cNvSpPr/>
                <p:nvPr/>
              </p:nvSpPr>
              <p:spPr>
                <a:xfrm flipH="1" flipV="1">
                  <a:off x="4701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55"/>
            <p:cNvGrpSpPr/>
            <p:nvPr/>
          </p:nvGrpSpPr>
          <p:grpSpPr>
            <a:xfrm>
              <a:off x="4875840" y="2972520"/>
              <a:ext cx="692280" cy="565920"/>
              <a:chOff x="4875840" y="2972520"/>
              <a:chExt cx="692280" cy="565920"/>
            </a:xfrm>
          </p:grpSpPr>
          <p:grpSp>
            <p:nvGrpSpPr>
              <p:cNvPr id="140" name="Group 56"/>
              <p:cNvGrpSpPr/>
              <p:nvPr/>
            </p:nvGrpSpPr>
            <p:grpSpPr>
              <a:xfrm>
                <a:off x="4875840" y="2972520"/>
                <a:ext cx="345960" cy="283320"/>
                <a:chOff x="4875840" y="2972520"/>
                <a:chExt cx="345960" cy="283320"/>
              </a:xfrm>
            </p:grpSpPr>
            <p:sp>
              <p:nvSpPr>
                <p:cNvPr id="141" name="Freeform 57"/>
                <p:cNvSpPr/>
                <p:nvPr/>
              </p:nvSpPr>
              <p:spPr>
                <a:xfrm>
                  <a:off x="487584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58"/>
                <p:cNvSpPr/>
                <p:nvPr/>
              </p:nvSpPr>
              <p:spPr>
                <a:xfrm flipH="1">
                  <a:off x="504828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59"/>
              <p:cNvGrpSpPr/>
              <p:nvPr/>
            </p:nvGrpSpPr>
            <p:grpSpPr>
              <a:xfrm>
                <a:off x="5222160" y="3255120"/>
                <a:ext cx="345960" cy="283320"/>
                <a:chOff x="5222160" y="3255120"/>
                <a:chExt cx="345960" cy="283320"/>
              </a:xfrm>
            </p:grpSpPr>
            <p:sp>
              <p:nvSpPr>
                <p:cNvPr id="144" name="Freeform 60"/>
                <p:cNvSpPr/>
                <p:nvPr/>
              </p:nvSpPr>
              <p:spPr>
                <a:xfrm flipV="1">
                  <a:off x="522216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61"/>
                <p:cNvSpPr/>
                <p:nvPr/>
              </p:nvSpPr>
              <p:spPr>
                <a:xfrm flipH="1" flipV="1">
                  <a:off x="5394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62"/>
              <p:cNvGrpSpPr/>
              <p:nvPr/>
            </p:nvGrpSpPr>
            <p:grpSpPr>
              <a:xfrm>
                <a:off x="4875840" y="2972520"/>
                <a:ext cx="345960" cy="283320"/>
                <a:chOff x="4875840" y="2972520"/>
                <a:chExt cx="345960" cy="283320"/>
              </a:xfrm>
            </p:grpSpPr>
            <p:sp>
              <p:nvSpPr>
                <p:cNvPr id="147" name="Freeform 63"/>
                <p:cNvSpPr/>
                <p:nvPr/>
              </p:nvSpPr>
              <p:spPr>
                <a:xfrm>
                  <a:off x="487584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64"/>
                <p:cNvSpPr/>
                <p:nvPr/>
              </p:nvSpPr>
              <p:spPr>
                <a:xfrm flipH="1">
                  <a:off x="504828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65"/>
              <p:cNvGrpSpPr/>
              <p:nvPr/>
            </p:nvGrpSpPr>
            <p:grpSpPr>
              <a:xfrm>
                <a:off x="5222160" y="3255120"/>
                <a:ext cx="345960" cy="283320"/>
                <a:chOff x="5222160" y="3255120"/>
                <a:chExt cx="345960" cy="283320"/>
              </a:xfrm>
            </p:grpSpPr>
            <p:sp>
              <p:nvSpPr>
                <p:cNvPr id="150" name="Freeform 66"/>
                <p:cNvSpPr/>
                <p:nvPr/>
              </p:nvSpPr>
              <p:spPr>
                <a:xfrm flipV="1">
                  <a:off x="522216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67"/>
                <p:cNvSpPr/>
                <p:nvPr/>
              </p:nvSpPr>
              <p:spPr>
                <a:xfrm flipH="1" flipV="1">
                  <a:off x="5394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Text Box 68"/>
            <p:cNvSpPr/>
            <p:nvPr/>
          </p:nvSpPr>
          <p:spPr>
            <a:xfrm>
              <a:off x="4027320" y="3350160"/>
              <a:ext cx="5803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9"/>
            <p:cNvSpPr/>
            <p:nvPr/>
          </p:nvSpPr>
          <p:spPr>
            <a:xfrm>
              <a:off x="3312360" y="3255840"/>
              <a:ext cx="245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70"/>
            <p:cNvSpPr/>
            <p:nvPr/>
          </p:nvSpPr>
          <p:spPr>
            <a:xfrm>
              <a:off x="3490920" y="2783520"/>
              <a:ext cx="0" cy="9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71"/>
            <p:cNvSpPr/>
            <p:nvPr/>
          </p:nvSpPr>
          <p:spPr>
            <a:xfrm>
              <a:off x="3044520" y="3303000"/>
              <a:ext cx="58068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2"/>
            <p:cNvSpPr/>
            <p:nvPr/>
          </p:nvSpPr>
          <p:spPr>
            <a:xfrm flipV="1">
              <a:off x="3312360" y="3255480"/>
              <a:ext cx="17856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3"/>
            <p:cNvSpPr/>
            <p:nvPr/>
          </p:nvSpPr>
          <p:spPr>
            <a:xfrm flipH="1" flipV="1">
              <a:off x="4205520" y="3255840"/>
              <a:ext cx="4428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4"/>
            <p:cNvSpPr/>
            <p:nvPr/>
          </p:nvSpPr>
          <p:spPr>
            <a:xfrm>
              <a:off x="3669840" y="2783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5"/>
            <p:cNvSpPr/>
            <p:nvPr/>
          </p:nvSpPr>
          <p:spPr>
            <a:xfrm>
              <a:off x="4339800" y="2783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6"/>
            <p:cNvSpPr/>
            <p:nvPr/>
          </p:nvSpPr>
          <p:spPr>
            <a:xfrm>
              <a:off x="3669840" y="287820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7"/>
            <p:cNvSpPr/>
            <p:nvPr/>
          </p:nvSpPr>
          <p:spPr>
            <a:xfrm>
              <a:off x="4116600" y="287820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78"/>
            <p:cNvSpPr/>
            <p:nvPr/>
          </p:nvSpPr>
          <p:spPr>
            <a:xfrm>
              <a:off x="3848400" y="2689200"/>
              <a:ext cx="4467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79"/>
            <p:cNvSpPr/>
            <p:nvPr/>
          </p:nvSpPr>
          <p:spPr>
            <a:xfrm>
              <a:off x="5099400" y="2642040"/>
              <a:ext cx="8485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=</a:t>
              </a: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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80"/>
            <p:cNvSpPr/>
            <p:nvPr/>
          </p:nvSpPr>
          <p:spPr>
            <a:xfrm>
              <a:off x="4741920" y="2831040"/>
              <a:ext cx="44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81"/>
            <p:cNvSpPr/>
            <p:nvPr/>
          </p:nvSpPr>
          <p:spPr>
            <a:xfrm>
              <a:off x="5724720" y="306684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x,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2"/>
            <p:cNvSpPr/>
            <p:nvPr/>
          </p:nvSpPr>
          <p:spPr>
            <a:xfrm>
              <a:off x="3223080" y="259488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3"/>
            <p:cNvSpPr/>
            <p:nvPr/>
          </p:nvSpPr>
          <p:spPr>
            <a:xfrm>
              <a:off x="2590920" y="3766320"/>
              <a:ext cx="38862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4"/>
            <p:cNvSpPr/>
            <p:nvPr/>
          </p:nvSpPr>
          <p:spPr>
            <a:xfrm>
              <a:off x="4920480" y="2169720"/>
              <a:ext cx="446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5"/>
            <p:cNvSpPr/>
            <p:nvPr/>
          </p:nvSpPr>
          <p:spPr>
            <a:xfrm>
              <a:off x="5322600" y="1981080"/>
              <a:ext cx="4467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86"/>
          <p:cNvSpPr/>
          <p:nvPr/>
        </p:nvSpPr>
        <p:spPr>
          <a:xfrm>
            <a:off x="990720" y="137160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 Black"/>
              </a:rPr>
              <a:t>МЕХАНИЧКИ</a:t>
            </a:r>
            <a:r>
              <a:rPr b="1" lang="sr-Latn-C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 Black"/>
              </a:rPr>
              <a:t>ТАЛАСИ</a:t>
            </a:r>
            <a:r>
              <a:rPr b="1" lang="sr-Latn-CS" sz="16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sr-CS" sz="1600" spc="-1" strike="noStrike">
                <a:solidFill>
                  <a:srgbClr val="000000"/>
                </a:solidFill>
                <a:latin typeface="Arial Black"/>
              </a:rPr>
              <a:t>ОСНОВНЕ</a:t>
            </a:r>
            <a:r>
              <a:rPr b="1" lang="sr-Latn-C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 Black"/>
              </a:rPr>
              <a:t>КАРАКТЕРИСТ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ЗВУК</a:t>
            </a:r>
            <a:r>
              <a:rPr b="1" lang="sl-SI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УЛТРАЗВ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0" y="1828800"/>
            <a:ext cx="198108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лтра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057400" y="2057400"/>
            <a:ext cx="297180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рекв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-20.000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.000 Hz –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876920" y="1447920"/>
            <a:ext cx="426708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тенз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ијагностич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10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- 40 W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ерапеутски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1.00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200400" y="5638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70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марн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лтразвук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38280" y="17524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ханич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мич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охемијс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урорефлекс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екундарн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деловањ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ултразву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66680" y="2285640"/>
            <a:ext cx="7315200" cy="4267080"/>
          </a:xfrm>
          <a:prstGeom prst="rect">
            <a:avLst/>
          </a:prstGeom>
          <a:noFill/>
          <a:ln w="7632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алгет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азмолит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тиинфламатор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мпатиколит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кроциркул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фи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енер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бринолит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МЕХАН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914400" y="1905120"/>
            <a:ext cx="746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нуелна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са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пецијалн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блиц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са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паратурна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са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хипобаричн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цед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нуелн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ерапијск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ехник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нипулациј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сктензион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цедур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ракциј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онотерапија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нфра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лтразвук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жељен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оно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51920" y="2514240"/>
            <a:ext cx="4876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еном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вит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парат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лтразв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7632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чи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бијањ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гнетостриктив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механи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тодик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мен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лтразву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би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би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рект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баква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000000"/>
                </a:solidFill>
                <a:uFillTx/>
                <a:latin typeface="Calibri"/>
              </a:rPr>
              <a:t>Сонофор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860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који се уноси обично је у облику масти или креме и најчешће се користе следећи леко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omucasae, hylase, hidrocortison, a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тиреуматске креме..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етман се изводи лабилном методо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о контактни медијум се кори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овита крема или ма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Дозирање соно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личин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имљен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Интензитет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(W/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цм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овршин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апликуј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цм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Времен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рајањ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апликациј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Броја да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ндикације</a:t>
            </a:r>
            <a:r>
              <a:rPr b="1" lang="sr-Latn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а</a:t>
            </a:r>
            <a:r>
              <a:rPr b="1" lang="sr-Latn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онотерапију</a:t>
            </a:r>
            <a:r>
              <a:rPr b="0" lang="en-GB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елоиди и ожиљц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Dupuytren-ova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нтракту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ртроз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RA, Mb Bechter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ндовагинитис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PAHS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пикондилитис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нтрактур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сттрауматска стања и њихове комплика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уралг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аузалг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кцигодин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азарање камен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Mb Meniere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перације хипофиз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онтраиндикације</a:t>
            </a:r>
            <a:r>
              <a:rPr b="1" lang="sr-Latn-C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а</a:t>
            </a:r>
            <a:r>
              <a:rPr b="1" lang="sr-Latn-C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онотерапију</a:t>
            </a:r>
            <a:r>
              <a:rPr b="0" lang="en-GB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не</a:t>
            </a:r>
            <a:r>
              <a:rPr b="1" lang="sr-Latn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примењује</a:t>
            </a:r>
            <a:r>
              <a:rPr b="1" lang="sr-Latn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се</a:t>
            </a:r>
            <a:r>
              <a:rPr b="1" lang="sr-Latn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еделу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главе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линија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раста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осе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medulae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spinalis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гравидне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терице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ечјем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зрасту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оне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раста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исуство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етала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љу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није</a:t>
            </a:r>
            <a:r>
              <a:rPr b="1" lang="sr-Latn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контраиндик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нтраиникациј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оно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ебрилна ст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мбофлеб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кло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варе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еопор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т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ектив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БЦ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нхијекта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лигнит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компенз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тал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а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Calibri"/>
              </a:rPr>
              <a:t>МАНУЕЛНА</a:t>
            </a: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5000" spc="-1" strike="noStrike" u="sng">
                <a:solidFill>
                  <a:srgbClr val="000000"/>
                </a:solidFill>
                <a:uFillTx/>
                <a:latin typeface="Calibri"/>
              </a:rPr>
              <a:t>МАСАЖ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орт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гијен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00100000"/>
          <p:cNvPicPr/>
          <p:nvPr/>
        </p:nvPicPr>
        <p:blipFill>
          <a:blip r:embed="rId1"/>
          <a:stretch/>
        </p:blipFill>
        <p:spPr>
          <a:xfrm>
            <a:off x="5877000" y="2919240"/>
            <a:ext cx="158112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masaza02"/>
          <p:cNvPicPr/>
          <p:nvPr/>
        </p:nvPicPr>
        <p:blipFill>
          <a:blip r:embed="rId2"/>
          <a:stretch/>
        </p:blipFill>
        <p:spPr>
          <a:xfrm>
            <a:off x="3886200" y="19810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Хватов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класичн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ануелн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ЂЕ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- EFFLEU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Љ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- F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ЊЕЧЕ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- PETRI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УПК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- TAPOTMENT ili PERC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БР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- VIB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разних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облика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Rey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992840"/>
        </p:xfrm>
        <a:graphic>
          <a:graphicData uri="http://schemas.openxmlformats.org/drawingml/2006/table">
            <a:tbl>
              <a:tblPr/>
              <a:tblGrid>
                <a:gridCol w="1905120"/>
                <a:gridCol w="1452600"/>
                <a:gridCol w="1900080"/>
                <a:gridCol w="29718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Дело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ватови маса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Ткива на која делу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Утица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Седати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Глађ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Површина ко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Преко нервних заврше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Површно трљ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Кожа и поткожно тк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На све елементе које обухватају ови слоје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Стимулатор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Дубоко трљ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Сви слојеви меких тк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На све елементе у њ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Гњеч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Мека тк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Утицај изражен нарочито на мишићне парт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Лупк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Мека тк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Стимулише мишиће који реагују лаким контракциј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Индик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З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општу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масаж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конвалесцен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Зам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уроциркуалтор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исто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З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локалну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масаж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сттрауматск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уматск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окалн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тоц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едем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Цервикалн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умбалн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индром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литав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пастичк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арез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арализ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во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инезитерапи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онтраиндикације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за масаж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ебр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ут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раз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утн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паље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цес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рочит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ној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кло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рварењ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мфангити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омбофлебити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раже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шир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неуризм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лиг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умор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ж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фролитијаз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олелитија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АПАРАТУРНА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МАСАЖА</a:t>
            </a:r>
            <a:br>
              <a:rPr sz="2600"/>
            </a:b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Апара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ВИБРОМАСАЖЕ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Aparaturna masaza"/>
          <p:cNvPicPr/>
          <p:nvPr/>
        </p:nvPicPr>
        <p:blipFill>
          <a:blip r:embed="rId1"/>
          <a:srcRect l="4208" t="44173" r="6312" b="3473"/>
          <a:stretch/>
        </p:blipFill>
        <p:spPr>
          <a:xfrm>
            <a:off x="457200" y="1447920"/>
            <a:ext cx="3817800" cy="75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Aparaturna masaza"/>
          <p:cNvPicPr/>
          <p:nvPr/>
        </p:nvPicPr>
        <p:blipFill>
          <a:blip r:embed="rId2"/>
          <a:srcRect l="0" t="59975" r="6179" b="0"/>
          <a:stretch/>
        </p:blipFill>
        <p:spPr>
          <a:xfrm>
            <a:off x="4343400" y="1371600"/>
            <a:ext cx="3673440" cy="38419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228600" y="51814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ишењ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г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локал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алгезија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тив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перем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бољшањ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ћелијског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аболизм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лиминац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етни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градни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дукат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толошког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ДРОМАСА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408040"/>
            <a:ext cx="4800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Туше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Шкотски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уш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Шарков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уш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Бисер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одвод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Вртложн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уп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3962520" y="2130480"/>
          <a:ext cx="4697280" cy="32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130480"/>
                    <a:ext cx="469728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38:32Z</dcterms:created>
  <dc:creator>Veljkovic Miodrag</dc:creator>
  <dc:description/>
  <dc:language>en-US</dc:language>
  <cp:lastModifiedBy>Info</cp:lastModifiedBy>
  <dcterms:modified xsi:type="dcterms:W3CDTF">2014-07-11T15:13:27Z</dcterms:modified>
  <cp:revision>62</cp:revision>
  <dc:subject/>
  <dc:title>MEHANOTERAPIJA</dc:title>
</cp:coreProperties>
</file>